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9.png" ContentType="image/png"/>
  <Override PartName="/ppt/media/image10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26.wmf" ContentType="image/x-wmf"/>
  <Override PartName="/ppt/media/image25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B9B3D-9BE3-4D21-BCD5-D384E69174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18442-51F1-4987-97C9-D688914CED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2E757-5043-4DA3-B126-07FFEFC103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CD184-E877-4AA5-83A0-2181AC305E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B54D4-7167-4809-8C0C-D8EE5AB242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1831A-C06F-4C6D-8FCB-70A7B01CC5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759F0-0CFA-4435-B048-7E8ADFAC2B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0F72D-74FE-42F2-8C94-99D9DA1D37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A20CF-8F3D-4DC9-B1A5-D8594C8EDD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F6E7A-443E-4BC9-83AD-414F76FCF1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83998-26B8-4B05-9E53-2F9FAEA731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F6660-0EEF-46BD-8897-6D6A49B7E5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8FC02-3BBA-4761-B7B6-449D211A3B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721B8-F9A9-4303-BBEE-7885877324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50C17-889D-4CF5-9392-3D2907F35D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7CB3F-4785-4C3B-8418-32F5EC3569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21BB3-2988-4384-B657-FC40C9348E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32DFF-ED23-4165-BD7D-54D6CCD7CA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AB491-E9E7-4E3C-89B5-CBB8F7DF2C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672AC-4503-4C41-A922-3C3A442CF3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BC377-E681-4E67-8245-2A4D9F4C71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83405-6CD0-4692-A135-01FC66C96F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F6870-DD0A-41E6-8FD4-B315161C67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178BA-2176-4241-BF79-27E1E16CA1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8B890-DC80-46EB-9028-29B37A01F5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32652-F281-49F5-99B4-910FFEFE31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5BFFC-A191-4762-B751-5BEF6C0BEA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62A6A-E3A4-4272-BF05-B3B56B12D1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C0B86-130D-4DF0-90EA-660ABCE0B7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DB93C-D046-49E6-8C79-2D4391437E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CE497-5415-45CF-8B65-1AA3F18FDE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9A017-136F-4155-9DD1-6839E08C0B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F8533-79BA-47D9-8877-B095986086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F8D7C-D75A-4F55-8FE6-75DB4FE667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7ECBD-B53A-41F8-B50F-B41CA3707D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6ABB-2720-4364-9FE8-D9A7F60C8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2FE5-FE33-4CF7-845B-3B7FA2E5E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D308-16F5-4964-BB2D-7E9B07C88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EF56-6DCA-4C6E-9CA0-7C115DAF3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C331-3D5B-4EF5-957D-FD5FFDA1F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295E-83C1-426C-A1E3-074E234BB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3D7A-C7B0-4BD1-969B-CAE3832BF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DCF8-7B07-4F35-8692-B55272FF7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0B8E-CCB7-4DCD-A5EA-F4800E2D9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4824-64BF-4011-8515-35F017E5B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A446-148D-44EC-BA49-DFD9DA4C9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68EE-8760-4603-BCD7-7FA493B06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5C267-8AA1-47D4-B9DD-E6B762A8C8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pdated 2010-11-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39895-7D93-4C6F-8BAB-31290C49275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0FE27-87D5-4FC2-A5BF-E0FE3158676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66A28-2034-41B6-9003-0B3C91329EC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A3364-10E8-496B-AEE0-26DAE3B3D48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EBB6A-1307-4CB6-A4F4-401E2A9C655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8D13C-B0B8-4778-B514-25EBE94F49A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6704D-0C83-4AE4-A97A-26ACA1A2EC4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DB79A-8EE0-4403-AFA9-AF2BA4B5E2B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D1ECF-1A9D-4479-8467-A35FA0F605F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C71B1-E535-444D-8C12-B1F3E084B85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Not ye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Debug data structures using printAny(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also switch to RML for an algorithmic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2F292-FA81-4157-B3AF-6DBE666F124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80CE2-84CC-498C-B759-84AC2853B4F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nging compiler to R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4A8AD-0E53-4DC4-9658-5EB6C53D894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 (RML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AD5B2-DCF9-412F-A571-01CCD8A2219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the name of the execu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 flipV="1">
            <a:off x="5643360" y="2341440"/>
            <a:ext cx="1260360" cy="655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29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Browse and select the executable you just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0979F-5CFB-40F4-8A4F-76025331869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1A96A-52BA-4E71-98DE-6F846C5A162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8877D-8E4A-42D3-91B5-715D0B43107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D967F-3627-46BC-9CBF-791C6AA88C8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47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tep into works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0B077-498A-4687-B255-88A20EB374B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F142F-A9EE-4FE3-9E78-69B978DE573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BB5DE-D12B-401D-B875-EF9A7A3173C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0D5A2-3D93-4DA6-8EB5-2CA776263FA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610C2-68B4-4B72-B9F8-60BC339479C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DA522-C7DB-4411-9F29-1FC07B8FC51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and the slides if you need additional information during the exerci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18799-9571-48E3-BEC8-4C3AF7E2294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96CA6-8286-487F-A991-A8F51628AD6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EF988-CDF6-40B5-96D4-C9D93810E40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CF377-AB4D-45DB-B309-15443B3CDD1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70D3B-B6E8-4B28-9D48-343258E82BF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A8151-B191-448D-94C7-0FA7D013B38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CF319-C04A-4E8D-A8C6-9810A36A980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38BAC-5046-405A-8DE4-7BCA7030887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BE96D-BEB1-4E4B-8A29-B6D9893CE39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3BCB4-79B8-4931-9442-68454088005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4A5ED-1ECD-4330-AEEB-80814632F1E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5550A-16E2-4D69-A58C-0DFC831EB44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1ED0B-1C1C-41DD-BD4E-2C2CB162642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C3DE6-0F08-46D7-AEC7-2D475AF1652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24F9A-14BB-44CD-B353-F0D0935B140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01EB4-983F-4DB1-BDDF-94B1C3C6FDE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mForge graphic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D48BA-45AF-4A48-A7BB-5757195DCB3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1.5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urrently implemented in 280 000 lines of MetaModelica (1.4.5 was 180 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A9A68-53FD-4EA3-ABA8-9D988FDDA3E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4B4B3-80FF-4BE6-BB31-927A92C67B7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3040" y="765000"/>
          <a:ext cx="8509320" cy="21732840"/>
        </p:xfrm>
        <a:graphic>
          <a:graphicData uri="http://schemas.openxmlformats.org/drawingml/2006/table">
            <a:tbl>
              <a:tblPr/>
              <a:tblGrid>
                <a:gridCol w="3237120"/>
                <a:gridCol w="5272200"/>
              </a:tblGrid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FB3A1-6B0A-45DD-AA9E-936068FA1F7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EFD24-6797-4C0E-A4AB-3E85541984B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he Qt4 GUI library, portable between Windows, Linux,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036E0-3E79-4ACD-934D-3780133FDFD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F0073-2A06-4646-BBA6-7ABA93BC733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74D91-3734-422B-B269-049253E0CAB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77C05-4687-44D9-8D6E-AB545F10114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1FF41-E8B5-4D04-8508-0D9365E9AD8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A3AE3-F3D4-47C0-B5D3-A3418E77192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E3CDE-9369-4C79-A7FC-CAEE30488FB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ölund</cp:lastModifiedBy>
  <cp:lastPrinted>2001-06-05T14:43:50Z</cp:lastPrinted>
  <dcterms:modified xsi:type="dcterms:W3CDTF">2009-10-23T07:24:48Z</dcterms:modified>
  <cp:revision>44</cp:revision>
  <dc:subject>MetaModelica</dc:subject>
  <dc:title>MetaModelica Tutorial and Exercises</dc:title>
</cp:coreProperties>
</file>